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2BB7-461A-4EE4-B97A-252B71FA3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691-391A-42E4-94A0-C788FBE5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3C7C-410D-4D9F-98B0-45516D9F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42D8-9C91-4C27-9D0B-A9BB88A1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B87D-BA97-442E-8D52-9063007D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D5DD-D221-41A1-9D5B-8EB92CF3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595D-DBFE-4183-A4D4-08F7E8B4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6081-EDB0-4E14-B81F-48823DD3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80F5-DD03-4D8C-B6FD-2694629A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4F66-64C9-469C-AACD-94E82BE5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8165-12EE-45AC-B578-E7C8E3C8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2C56-856F-4256-9551-C061C7FD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EEC2-5F11-4387-9975-F04DDF938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chool-wires.wikispaces.com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 Gall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students will LOVE to see photographs on your pag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“Home”to return to your page 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133720" y="259092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 the “tag” where you want your photo gall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>
            <a:off x="5943600" y="2590920"/>
            <a:ext cx="1295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2819520"/>
            <a:ext cx="99072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e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 return to the wik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“Tools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3080" y="2055960"/>
            <a:ext cx="384480" cy="384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3429000" y="2362320"/>
            <a:ext cx="1828800" cy="2133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“Photo Galleries” from the drop down men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971800" y="2895480"/>
            <a:ext cx="11430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“New Photo Galler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936800"/>
            <a:ext cx="9144000" cy="4921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28800" y="3048120"/>
            <a:ext cx="182880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gallery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click “S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8080" y="396252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5943600"/>
            <a:ext cx="6858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“Photo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400800" y="4114800"/>
            <a:ext cx="9144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upload photos individually, click “Upload Photos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upload a folder of photos, click “Batch Upload Photos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Click “Finish” after uploading photos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38080" y="3124080"/>
            <a:ext cx="106704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962160" y="21337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“Tag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467480" y="4038480"/>
            <a:ext cx="4572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 the “Tag” then click “OK”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ight click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52280" y="1936800"/>
            <a:ext cx="9296280" cy="4921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flipH="1" flipV="1">
            <a:off x="1981080" y="3352680"/>
            <a:ext cx="2438640" cy="1524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03:47:44Z</dcterms:created>
  <dc:creator>%$#@1</dc:creator>
  <dc:description/>
  <dc:language>en-US</dc:language>
  <cp:lastModifiedBy>%$#@1</cp:lastModifiedBy>
  <dcterms:modified xsi:type="dcterms:W3CDTF">2010-04-27T03:47:48Z</dcterms:modified>
  <cp:revision>1</cp:revision>
  <dc:subject/>
  <dc:title>Photo Gallery</dc:title>
</cp:coreProperties>
</file>